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3.wmf" ContentType="image/x-wmf"/>
  <Override PartName="/ppt/media/image13.jpeg" ContentType="image/jpeg"/>
  <Override PartName="/ppt/media/image19.jpeg" ContentType="image/jpeg"/>
  <Override PartName="/ppt/media/image4.wmf" ContentType="image/x-wmf"/>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4838-71D1-4F37-A344-4628185E4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D870-63D5-410A-AC2B-1BF83BBF68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DF58-01ED-4C8D-AB90-69A1903A06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7B52D-EFBD-4249-AAF9-64B3755D9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0F53D-3860-40A4-BE66-5486F5CA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10BC5-DCB3-4EA4-BF52-B1382DCCE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ABA30-4C60-437D-BFF2-92421CAD3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C6A7-7C48-471A-8CA2-AE584F88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5FDD6-426D-4F32-ADA7-F47CF9A7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045A2-9230-4257-8E93-FD4A38C4F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974C0-05FD-4473-BF4F-7741DE03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0B53-B01E-4966-B979-069F8ADE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5702-B307-46BF-82CA-1682463B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19CA-A4BD-4C5F-B611-B0EAA010A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D284-3921-469C-BB9F-11A215F48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FE8A-660E-4BEB-AD87-4F7DFC816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060280"/>
            <a:ext cx="8229600" cy="40654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GRATED ACADEMIC MEDICAL STUDIES</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PORTS MEDICINE</a:t>
            </a:r>
            <a:endParaRPr b="0" lang="en-US" sz="4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RD YEAR OF STUDIES</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YEAR 2023/2024.</a:t>
            </a:r>
            <a:endParaRPr b="0" lang="en-US" sz="2400" spc="-1" strike="noStrike">
              <a:solidFill>
                <a:srgbClr val="000000"/>
              </a:solidFill>
              <a:latin typeface="Calibri"/>
            </a:endParaRPr>
          </a:p>
        </p:txBody>
      </p:sp>
      <p:pic>
        <p:nvPicPr>
          <p:cNvPr id="49" name="Picture 3" descr="Logotip Medicinski monohroamtski"/>
          <p:cNvPicPr/>
          <p:nvPr/>
        </p:nvPicPr>
        <p:blipFill>
          <a:blip r:embed="rId1"/>
          <a:stretch/>
        </p:blipFill>
        <p:spPr>
          <a:xfrm>
            <a:off x="3890880" y="115920"/>
            <a:ext cx="1362240" cy="185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ions of action of AIMS</a:t>
            </a:r>
            <a:endParaRPr b="0" lang="en-US" sz="2400" spc="-1" strike="noStrike">
              <a:solidFill>
                <a:srgbClr val="000000"/>
              </a:solidFill>
              <a:latin typeface="Calibri"/>
            </a:endParaRPr>
          </a:p>
        </p:txBody>
      </p:sp>
      <p:sp>
        <p:nvSpPr>
          <p:cNvPr id="72" name=""/>
          <p:cNvSpPr txBox="1"/>
          <p:nvPr/>
        </p:nvSpPr>
        <p:spPr>
          <a:xfrm>
            <a:off x="324000" y="1517400"/>
            <a:ext cx="8229600" cy="4575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romotion of sport-related scientific research in the fields of biology, psychology and sociology,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romotion of medical research projects related to training and competition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organizing international sports medicine congress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e establishment and start of work of AIMS, the emergence of sports medicine as a new medical field was made offici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Third International Congress of Sports Medicine in Chamonix in 1934, it was decided that AIMS (Association International Medico-Sportive) would change its name to FIMS (Fédération Internationale de Médécine du Sport - International Federation of Sports Medic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INE AS A MEDICAL SPECIALIZATION</a:t>
            </a:r>
            <a:endParaRPr b="0" lang="en-US" sz="2400" spc="-1" strike="noStrike">
              <a:solidFill>
                <a:srgbClr val="000000"/>
              </a:solidFill>
              <a:latin typeface="Calibri"/>
            </a:endParaRPr>
          </a:p>
        </p:txBody>
      </p:sp>
      <p:sp>
        <p:nvSpPr>
          <p:cNvPr id="74" name=""/>
          <p:cNvSpPr txBox="1"/>
          <p:nvPr/>
        </p:nvSpPr>
        <p:spPr>
          <a:xfrm>
            <a:off x="468360" y="1483920"/>
            <a:ext cx="8229600" cy="475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as a medical specialty began in the USSR and Eastern European countries, including our former Yugoslav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report of the European Olympic Committee (EOC - EFSMA), in the middle of the first decade of the 20th century, sports medicine specialization was organized in 19 European countries, and sub-specialization in another 15 count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estimated that at that time there were around 23,000 members of sports medicine associations (15,300 specialists and 5,400 sub-specialis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untries with the largest number of specialists were Russia (≈2000) and Italy (≈120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uropean Union of Medical Specialists (UEMS) within the framework of the Training Charter for Medical Specialists in the European Union, in 1995 prescribed unique Conditions for the specialization of sports medicine in the countries of the European Un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VELOPMENT AND CURRENT STATE OF SPORTS MEDICINE IN SER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a:t>
            </a:r>
            <a:endParaRPr b="0" lang="en-US" sz="2400" spc="-1" strike="noStrike">
              <a:solidFill>
                <a:srgbClr val="000000"/>
              </a:solidFill>
              <a:latin typeface="Calibri"/>
            </a:endParaRPr>
          </a:p>
        </p:txBody>
      </p:sp>
      <p:sp>
        <p:nvSpPr>
          <p:cNvPr id="77" name=""/>
          <p:cNvSpPr txBox="1"/>
          <p:nvPr/>
        </p:nvSpPr>
        <p:spPr>
          <a:xfrm>
            <a:off x="468360" y="148392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organized medical examinations of athletes in Belgrade began in 192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24, a tragic event took place at a football match between the teams of Belgrade and Lower Austria:  - the goalkeeper of our team, Lajos Šenfeld, was hit in the left groin - he was taken to the hospital, where he underwent surgery, but succumbed to the injury because his enlarged spleen burst from tropical malar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death excited sports Belgrade, so doctors who are members of the clubs started examining the players, being on duty at matches and organizing medical sections at the club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a:t>
            </a:r>
            <a:endParaRPr b="0" lang="en-US" sz="2400" spc="-1" strike="noStrike">
              <a:solidFill>
                <a:srgbClr val="000000"/>
              </a:solidFill>
              <a:latin typeface="Calibri"/>
            </a:endParaRPr>
          </a:p>
        </p:txBody>
      </p:sp>
      <p:sp>
        <p:nvSpPr>
          <p:cNvPr id="79" name=""/>
          <p:cNvSpPr txBox="1"/>
          <p:nvPr/>
        </p:nvSpPr>
        <p:spPr>
          <a:xfrm>
            <a:off x="324000" y="1196640"/>
            <a:ext cx="8229600" cy="5111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36, the first sports clinic was establish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a few selected doctors, a young doctor, Dr. Vojin Smodlaka, who is considered the doyen of modern sports medicine in Serbia, worked in this clini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ports clinic worked twice a week for two hours until the beginning of the Second World Wa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creenings were fr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consisted of taking personal data, anamnesis, examination of the whole body, X-ray examination of the lungs and heart, performing a stress test consisting of 20 squats with a chair in the hands, laboratory examination of blood and urine and, if necessary, taking an electrocardiogr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tball players could not compete without examinations, which were mandatory twice a year, and without the permission and signature of the doctor of this clin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11280" y="2205000"/>
            <a:ext cx="2227320" cy="2876760"/>
          </a:xfrm>
          <a:prstGeom prst="rect">
            <a:avLst/>
          </a:prstGeom>
          <a:ln w="0">
            <a:noFill/>
          </a:ln>
        </p:spPr>
      </p:pic>
      <p:sp>
        <p:nvSpPr>
          <p:cNvPr id="81" name="Rectangle 4"/>
          <p:cNvSpPr/>
          <p:nvPr/>
        </p:nvSpPr>
        <p:spPr>
          <a:xfrm>
            <a:off x="2916360" y="1916280"/>
            <a:ext cx="5688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 Dr. Vojin Smodlaka (1912-2002), the first doctor in Serbia who chose sports medicine as a professional, the first specialist in sports medicine in our area, the first doctor of science and professor in this field at the Faculty of Medicine and the Faculty of Physical Education in Belgrade and at Military Medical Academy. Author of a large number of monographs, textbooks and books that significantly contributed to the affirmation and improvement of sports medicine within the framework of modern medical science.</a:t>
            </a:r>
            <a:r>
              <a:rPr b="0" lang="ru-RU" sz="2000" spc="-1" strike="noStrike">
                <a:solidFill>
                  <a:srgbClr val="000000"/>
                </a:solidFill>
                <a:latin typeface="Calibri"/>
              </a:rPr>
              <a:t> </a:t>
            </a:r>
            <a:r>
              <a:rPr b="0" lang="ru-RU" sz="2000" spc="-1" strike="noStrike">
                <a:solidFill>
                  <a:srgbClr val="000000"/>
                </a:solidFill>
                <a:latin typeface="Minion Pr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45, on the initiative of Prof. Dr. </a:t>
            </a:r>
            <a:r>
              <a:rPr b="0" lang="en-US" sz="2000" spc="-1" strike="noStrike">
                <a:solidFill>
                  <a:srgbClr val="000000"/>
                </a:solidFill>
                <a:latin typeface="Calibri"/>
                <a:ea typeface="Arial"/>
              </a:rPr>
              <a:t>Mihailo Andrejević - Andrejka</a:t>
            </a:r>
            <a:r>
              <a:rPr b="0" lang="en-US" sz="2000" spc="-1" strike="noStrike">
                <a:solidFill>
                  <a:srgbClr val="000000"/>
                </a:solidFill>
                <a:latin typeface="Calibri"/>
              </a:rPr>
              <a:t>, the Section for Sports Medicine was formed within the Serbian Medical Association.</a:t>
            </a:r>
            <a:endParaRPr b="0" lang="en-US" sz="2000" spc="-1" strike="noStrike">
              <a:solidFill>
                <a:srgbClr val="000000"/>
              </a:solidFill>
              <a:latin typeface="Calibri"/>
            </a:endParaRPr>
          </a:p>
        </p:txBody>
      </p:sp>
      <p:sp>
        <p:nvSpPr>
          <p:cNvPr id="83" name="Rectangle 4"/>
          <p:cNvSpPr/>
          <p:nvPr/>
        </p:nvSpPr>
        <p:spPr>
          <a:xfrm>
            <a:off x="2824200" y="2922480"/>
            <a:ext cx="6048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 Dr. Mihailo Andrejević - Andrejka (1898-1989), internist, gastroenterologist, professor at the Faculty of Medicine in Belgrade. The left wing of the BSK in the period from 1911 to World War I. The leader of the Yugoslav football team at the World Cup in Montevideo. One of the initiators of the establishment of the Tuško Fund. President of the Yugoslav Football Association (1937-1941).</a:t>
            </a: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84" name="Picture 6" descr="Meet the Serbs - MIHAILO ANDREJEVIĆ ANDREJKA, a Serbian doctor, football  player and an important figure in the world football, died #OnThisDay (20  September) in 1989. The story of Mihailo Andrejević became"/>
          <p:cNvPicPr/>
          <p:nvPr/>
        </p:nvPicPr>
        <p:blipFill>
          <a:blip r:embed="rId1"/>
          <a:stretch/>
        </p:blipFill>
        <p:spPr>
          <a:xfrm>
            <a:off x="596880" y="3068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Image result for doping"/>
          <p:cNvPicPr/>
          <p:nvPr/>
        </p:nvPicPr>
        <p:blipFill>
          <a:blip r:embed="rId1"/>
          <a:stretch/>
        </p:blipFill>
        <p:spPr>
          <a:xfrm>
            <a:off x="7383600" y="4437000"/>
            <a:ext cx="1734840" cy="2305080"/>
          </a:xfrm>
          <a:prstGeom prst="rect">
            <a:avLst/>
          </a:prstGeom>
          <a:ln w="0">
            <a:noFill/>
          </a:ln>
        </p:spPr>
      </p:pic>
      <p:sp>
        <p:nvSpPr>
          <p:cNvPr id="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 term and meaning</a:t>
            </a:r>
            <a:endParaRPr b="0" lang="en-US" sz="3200" spc="-1" strike="noStrike">
              <a:solidFill>
                <a:srgbClr val="000000"/>
              </a:solidFill>
              <a:latin typeface="Calibri"/>
            </a:endParaRPr>
          </a:p>
        </p:txBody>
      </p:sp>
      <p:sp>
        <p:nvSpPr>
          <p:cNvPr id="87"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ing - the Dutch word "doop" - a type of alcoholic drink used in Africa to improve mental and physical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 came into use at the beginning of the 20th century and originally referred to the illegal drugging of racehor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mpetitive sports, doping is the use of prohibited substances that increase athletic abilities (athletic performance-enhancing dru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e of improving athletic ability by introducing foreign substances or other artificial means is as old as competitive sports itsel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throughout history</a:t>
            </a:r>
            <a:endParaRPr b="0" lang="en-US" sz="3200" spc="-1" strike="noStrike">
              <a:solidFill>
                <a:srgbClr val="000000"/>
              </a:solidFill>
              <a:latin typeface="Calibri"/>
            </a:endParaRPr>
          </a:p>
        </p:txBody>
      </p:sp>
      <p:sp>
        <p:nvSpPr>
          <p:cNvPr id="89"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tory at any cost" - a motto that existed in the distant past, and still exists today in modern spor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participate and not to win" - a postulate set by Baron Pierre de Coubertin - founder of the modern Olympic Games (First Modern Olympic Games - Athens in 189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spects are key to setting winning as a key motiv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using sport for political purpos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ommercialization of spor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sudden cardiac deaths - the 1960 Olympic Games and the 1967 Tour de France were linked to the use of amphetamines - the beginning of the fight against doping in spor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 descr="Image result for olimpiadas berlin 1936 jesse owens"/>
          <p:cNvPicPr/>
          <p:nvPr/>
        </p:nvPicPr>
        <p:blipFill>
          <a:blip r:embed="rId1"/>
          <a:stretch/>
        </p:blipFill>
        <p:spPr>
          <a:xfrm>
            <a:off x="0" y="0"/>
            <a:ext cx="6588000" cy="3705120"/>
          </a:xfrm>
          <a:prstGeom prst="rect">
            <a:avLst/>
          </a:prstGeom>
          <a:ln w="0">
            <a:noFill/>
          </a:ln>
        </p:spPr>
      </p:pic>
      <p:pic>
        <p:nvPicPr>
          <p:cNvPr id="91" name="Picture 2" descr="Related image"/>
          <p:cNvPicPr/>
          <p:nvPr/>
        </p:nvPicPr>
        <p:blipFill>
          <a:blip r:embed="rId2"/>
          <a:stretch/>
        </p:blipFill>
        <p:spPr>
          <a:xfrm>
            <a:off x="6588000" y="0"/>
            <a:ext cx="2556000" cy="3408480"/>
          </a:xfrm>
          <a:prstGeom prst="rect">
            <a:avLst/>
          </a:prstGeom>
          <a:ln w="0">
            <a:noFill/>
          </a:ln>
        </p:spPr>
      </p:pic>
      <p:pic>
        <p:nvPicPr>
          <p:cNvPr id="92" name="Picture 6" descr="Image result for jesse owens coca cola"/>
          <p:cNvPicPr/>
          <p:nvPr/>
        </p:nvPicPr>
        <p:blipFill>
          <a:blip r:embed="rId3"/>
          <a:stretch/>
        </p:blipFill>
        <p:spPr>
          <a:xfrm>
            <a:off x="0" y="3414600"/>
            <a:ext cx="2700360" cy="3443400"/>
          </a:xfrm>
          <a:prstGeom prst="rect">
            <a:avLst/>
          </a:prstGeom>
          <a:ln w="0">
            <a:noFill/>
          </a:ln>
        </p:spPr>
      </p:pic>
      <p:pic>
        <p:nvPicPr>
          <p:cNvPr id="93" name="Picture 8" descr="Related image"/>
          <p:cNvPicPr/>
          <p:nvPr/>
        </p:nvPicPr>
        <p:blipFill>
          <a:blip r:embed="rId4"/>
          <a:stretch/>
        </p:blipFill>
        <p:spPr>
          <a:xfrm>
            <a:off x="2700360" y="3429000"/>
            <a:ext cx="6480000" cy="3429000"/>
          </a:xfrm>
          <a:prstGeom prst="rect">
            <a:avLst/>
          </a:prstGeom>
          <a:ln w="0">
            <a:noFill/>
          </a:ln>
        </p:spPr>
      </p:pic>
      <p:sp>
        <p:nvSpPr>
          <p:cNvPr id="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73C1-F99F-4E52-B68F-5E3DAB05B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475920"/>
            <a:ext cx="9144000" cy="6381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urse is evaluated with 4 ECTS. There are 3 hours of active classes per week (2 hours of lectures, 1 hour of work in a small group).</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51" name="Picture 1" descr=""/>
          <p:cNvPicPr/>
          <p:nvPr/>
        </p:nvPicPr>
        <p:blipFill>
          <a:blip r:embed="rId1"/>
          <a:stretch/>
        </p:blipFill>
        <p:spPr>
          <a:xfrm>
            <a:off x="247680" y="1484280"/>
            <a:ext cx="864864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and sports medicine</a:t>
            </a:r>
            <a:endParaRPr b="0" lang="en-US" sz="3200" spc="-1" strike="noStrike">
              <a:solidFill>
                <a:srgbClr val="000000"/>
              </a:solidFill>
              <a:latin typeface="Calibri"/>
            </a:endParaRPr>
          </a:p>
        </p:txBody>
      </p:sp>
      <p:sp>
        <p:nvSpPr>
          <p:cNvPr id="96"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 the athlete's health, ensure fair play and preserve the spirit of Olympism" - medical code of the International Olympic Committ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doping control - Olympic Games in Mexico in 196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list of prohibited substances in spor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sychomotor stimula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ympathomimetic amin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timulants of the central nervous syst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narcotic analgesic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til 1999, doping control was under the jurisdiction of the International Olympic Committee, when the World Anti-Doping Agency (WADA) was formed.</a:t>
            </a:r>
            <a:endParaRPr b="0" lang="en-US" sz="2000" spc="-1" strike="noStrike">
              <a:solidFill>
                <a:srgbClr val="000000"/>
              </a:solidFill>
              <a:latin typeface="Calibri"/>
            </a:endParaRPr>
          </a:p>
        </p:txBody>
      </p:sp>
      <p:pic>
        <p:nvPicPr>
          <p:cNvPr id="97" name="Picture 2" descr="Image result for wada"/>
          <p:cNvPicPr/>
          <p:nvPr/>
        </p:nvPicPr>
        <p:blipFill>
          <a:blip r:embed="rId1"/>
          <a:stretch/>
        </p:blipFill>
        <p:spPr>
          <a:xfrm>
            <a:off x="6583320" y="2852640"/>
            <a:ext cx="2560680" cy="14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Y SUBJECT OF SPORTS MEDIC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INE - BASIC TERMS</a:t>
            </a:r>
            <a:endParaRPr b="0" lang="en-US" sz="2400" spc="-1" strike="noStrike">
              <a:solidFill>
                <a:srgbClr val="000000"/>
              </a:solidFill>
              <a:latin typeface="Calibri"/>
            </a:endParaRPr>
          </a:p>
        </p:txBody>
      </p:sp>
      <p:sp>
        <p:nvSpPr>
          <p:cNvPr id="100"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is a field of medicine that deals with the study of the positive and negative effects of sports and other forms of physical activity on the human body, in people of both sexes, of all age structures, healthy and sic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multidisciplinary field - pediatrics, cardiology, endocrinology, immunology, orthopedics and traumatology,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does not belong only to sports sciences and is not intended exclusively for athletes</a:t>
            </a:r>
            <a:endParaRPr b="0" lang="en-US" sz="2000" spc="-1" strike="noStrike">
              <a:solidFill>
                <a:srgbClr val="000000"/>
              </a:solidFill>
              <a:latin typeface="Calibri"/>
            </a:endParaRPr>
          </a:p>
        </p:txBody>
      </p:sp>
      <p:sp>
        <p:nvSpPr>
          <p:cNvPr id="101" name="Rectangle 3"/>
          <p:cNvSpPr/>
          <p:nvPr/>
        </p:nvSpPr>
        <p:spPr>
          <a:xfrm>
            <a:off x="5350320" y="3573360"/>
            <a:ext cx="24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f. Dr. Vojin Smodla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ORTS MEDICINE - BASIC TERMS</a:t>
            </a:r>
            <a:endParaRPr b="0" lang="en-US" sz="2800" spc="-1" strike="noStrike">
              <a:solidFill>
                <a:srgbClr val="000000"/>
              </a:solidFill>
              <a:latin typeface="Calibri"/>
            </a:endParaRPr>
          </a:p>
        </p:txBody>
      </p:sp>
      <p:sp>
        <p:nvSpPr>
          <p:cNvPr id="103" name=""/>
          <p:cNvSpPr txBox="1"/>
          <p:nvPr/>
        </p:nvSpPr>
        <p:spPr>
          <a:xfrm>
            <a:off x="468360" y="213336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2: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ports medicine is a multidisciplinary branch of medicine whose goal is to preserve the health of participants in sports and physical activities primarily through prevention, and then through therapy and rehabilitation of injuries, all with the aim of improving the psychophysical abilities necessary to achieve good competitive result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iodic systematic examinations represent the prevention and early detection of injuries and diseases caused by sports activ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pection frequency: every 6 or 12 months; in the case of monitoring health disorders according to the decision of the medical te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endParaRPr b="0" lang="en-US" sz="2400" spc="-1" strike="noStrike">
              <a:solidFill>
                <a:srgbClr val="000000"/>
              </a:solidFill>
              <a:latin typeface="Calibri"/>
            </a:endParaRPr>
          </a:p>
        </p:txBody>
      </p:sp>
      <p:sp>
        <p:nvSpPr>
          <p:cNvPr id="105" name=""/>
          <p:cNvSpPr txBox="1"/>
          <p:nvPr/>
        </p:nvSpPr>
        <p:spPr>
          <a:xfrm>
            <a:off x="468360" y="213336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ology of the sports medical examination was brought and adopted by the leading relevant international associations in this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anamnesi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physical examina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 anthropomet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 functional test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5. laboratory analy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br>
              <a:rPr sz="2400"/>
            </a:br>
            <a:r>
              <a:rPr b="0" lang="sr-CS" sz="2400" spc="-1" strike="noStrike">
                <a:solidFill>
                  <a:srgbClr val="000000"/>
                </a:solidFill>
                <a:latin typeface="Calibri"/>
              </a:rPr>
              <a:t>*</a:t>
            </a:r>
            <a:r>
              <a:rPr b="0" lang="en-US" sz="2400" spc="-1" strike="noStrike">
                <a:solidFill>
                  <a:srgbClr val="000000"/>
                </a:solidFill>
                <a:latin typeface="Calibri"/>
              </a:rPr>
              <a:t> anamnesis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07"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mnesis is the first and one of the most important parts of the examin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ontains information about the athlete's identity, the type and discipline of the sport he/she practices, the dynamics and type of training, as well as information about previous illnesses and inju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ell-taken history reveals 60-75% of possible problems in an athle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long with other components of the examination, can reveal various factors that affect work ability.</a:t>
            </a:r>
            <a:endParaRPr b="0" lang="en-US" sz="2000" spc="-1" strike="noStrike">
              <a:solidFill>
                <a:srgbClr val="000000"/>
              </a:solidFill>
              <a:latin typeface="Calibri"/>
            </a:endParaRPr>
          </a:p>
        </p:txBody>
      </p:sp>
      <p:pic>
        <p:nvPicPr>
          <p:cNvPr id="108" name="Picture 3" descr=""/>
          <p:cNvPicPr/>
          <p:nvPr/>
        </p:nvPicPr>
        <p:blipFill>
          <a:blip r:embed="rId1"/>
          <a:stretch/>
        </p:blipFill>
        <p:spPr>
          <a:xfrm>
            <a:off x="4567320" y="4724280"/>
            <a:ext cx="4201920" cy="210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br>
              <a:rPr sz="2400"/>
            </a:br>
            <a:r>
              <a:rPr b="0" lang="sr-CS" sz="2400" spc="-1" strike="noStrike">
                <a:solidFill>
                  <a:srgbClr val="000000"/>
                </a:solidFill>
                <a:latin typeface="Calibri"/>
              </a:rPr>
              <a:t>*</a:t>
            </a:r>
            <a:r>
              <a:rPr b="0" lang="en-US" sz="2400" spc="-1" strike="noStrike">
                <a:solidFill>
                  <a:srgbClr val="000000"/>
                </a:solidFill>
                <a:latin typeface="Calibri"/>
              </a:rPr>
              <a:t>physical examination</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0" name=""/>
          <p:cNvSpPr txBox="1"/>
          <p:nvPr/>
        </p:nvSpPr>
        <p:spPr>
          <a:xfrm>
            <a:off x="536400" y="139500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hysical examination collects a series of data on the current state and function of organs and syste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way, signs of disease and deformity are detec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get a complete overview, it is done according to the systems and includes an examination of the head and neck, chest and lungs, heart and blood vessels, abdomen, urogenital system, musculoskeletal system, skin, neurological and psychiatric examin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ase of need, in order to assess the current situation, a consultation of other specialist branches is requested (e.g. ENT examination for divers...)</a:t>
            </a:r>
            <a:endParaRPr b="0" lang="en-US" sz="2000" spc="-1" strike="noStrike">
              <a:solidFill>
                <a:srgbClr val="000000"/>
              </a:solidFill>
              <a:latin typeface="Calibri"/>
            </a:endParaRPr>
          </a:p>
        </p:txBody>
      </p:sp>
      <p:pic>
        <p:nvPicPr>
          <p:cNvPr id="111" name="Picture 1" descr=""/>
          <p:cNvPicPr/>
          <p:nvPr/>
        </p:nvPicPr>
        <p:blipFill>
          <a:blip r:embed="rId1"/>
          <a:stretch/>
        </p:blipFill>
        <p:spPr>
          <a:xfrm>
            <a:off x="5292720" y="4718160"/>
            <a:ext cx="3743280" cy="210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300+ Anthropometry Stock Photos, Pictures &amp; Royalty-Free Images - iStock |  Weight, Human body, Nutritionist"/>
          <p:cNvPicPr/>
          <p:nvPr/>
        </p:nvPicPr>
        <p:blipFill>
          <a:blip r:embed="rId1"/>
          <a:stretch/>
        </p:blipFill>
        <p:spPr>
          <a:xfrm>
            <a:off x="6516720" y="4683240"/>
            <a:ext cx="2174760" cy="2174760"/>
          </a:xfrm>
          <a:prstGeom prst="rect">
            <a:avLst/>
          </a:prstGeom>
          <a:ln w="0">
            <a:noFill/>
          </a:ln>
        </p:spPr>
      </p:pic>
      <p:sp>
        <p:nvSpPr>
          <p:cNvPr id="113"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 </a:t>
            </a:r>
            <a:r>
              <a:rPr b="0" lang="en-US" sz="2400" spc="-1" strike="noStrike">
                <a:solidFill>
                  <a:srgbClr val="000000"/>
                </a:solidFill>
                <a:latin typeface="Calibri"/>
              </a:rPr>
              <a:t>anthropometry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4" name=""/>
          <p:cNvSpPr txBox="1"/>
          <p:nvPr/>
        </p:nvSpPr>
        <p:spPr>
          <a:xfrm>
            <a:off x="539640" y="1481040"/>
            <a:ext cx="8229600" cy="4065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hropometry is a branch of medicine that deals with the measurement of morphological and functional paramet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hropometry involves measuring height and body mass, determining the height-to-weight ratio (BMI - body mass index), assessing nutrition and ideal body weight, determining body composition with body fat distribution, estimating expected growth,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measurements and derived values are compared with already established, generally accepted, standards classified by age, gender, type of sport and discipli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bounding from the standard requires a series of proposals and recommendations in terms of improving the health status of athletes as well as improving competitive resul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7650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a:t>
            </a:r>
            <a:r>
              <a:rPr b="0" lang="en-US" sz="2400" spc="-1" strike="noStrike">
                <a:solidFill>
                  <a:srgbClr val="000000"/>
                </a:solidFill>
                <a:latin typeface="Calibri"/>
              </a:rPr>
              <a:t> functional testing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6" name=""/>
          <p:cNvSpPr txBox="1"/>
          <p:nvPr/>
        </p:nvSpPr>
        <p:spPr>
          <a:xfrm>
            <a:off x="611280" y="162864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al tests aim to evaluate the current functional, i.e. working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of exceptional importance in assessing the ability to engage in a certain sport, in the assessment after a longer period of rest after injuries, as well as in the assessment of physical abilities during the training or competition cycle its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sts include basic motor tests (dynamometry and trunk flexibility measurement), functional tests of the respiratory system (spirometry through a whole range of obtained and derived values of lung volumes) as well as assessment of anaerobic threshold and aerobic capacity (by direct or indirect measurement of maximal oxygen consumption - VO</a:t>
            </a:r>
            <a:r>
              <a:rPr b="0" lang="en-US" sz="2000" spc="-1" strike="noStrike" baseline="-25000">
                <a:solidFill>
                  <a:srgbClr val="000000"/>
                </a:solidFill>
                <a:latin typeface="Calibri"/>
              </a:rPr>
              <a:t>2max</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7" name="Picture 5" descr="Functional Testing – John Snyder, DPT"/>
          <p:cNvPicPr/>
          <p:nvPr/>
        </p:nvPicPr>
        <p:blipFill>
          <a:blip r:embed="rId1"/>
          <a:stretch/>
        </p:blipFill>
        <p:spPr>
          <a:xfrm>
            <a:off x="6516720" y="5189400"/>
            <a:ext cx="2627280" cy="164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a:t>
            </a:r>
            <a:r>
              <a:rPr b="0" lang="en-US" sz="2400" spc="-1" strike="noStrike">
                <a:solidFill>
                  <a:srgbClr val="000000"/>
                </a:solidFill>
                <a:latin typeface="Calibri"/>
              </a:rPr>
              <a:t> laboratory analyses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9" name=""/>
          <p:cNvSpPr txBox="1"/>
          <p:nvPr/>
        </p:nvSpPr>
        <p:spPr>
          <a:xfrm>
            <a:off x="539640" y="148428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boratory analyzes can indicate the state of health and the assessment of functional capac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the primary health aspect, laboratory measurements should also help in planning training for the purpose of establishing an optimal sports fo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inimum analysis that should be done for each examination is blood count (with reference to iron status), sedimentation, blood glucose level and urine examination, lipid status (triglycerides, total cholesterol, HDL cholesterol, LDL cholesterol), bilirubin (total, direct, indirect), urea, creatinine, transaminases, enzymes, electroly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analyzes that can indicate the current state of health and the state of functional abilities.</a:t>
            </a:r>
            <a:endParaRPr b="0" lang="en-US" sz="2000" spc="-1" strike="noStrike">
              <a:solidFill>
                <a:srgbClr val="000000"/>
              </a:solidFill>
              <a:latin typeface="Calibri"/>
            </a:endParaRPr>
          </a:p>
        </p:txBody>
      </p:sp>
      <p:pic>
        <p:nvPicPr>
          <p:cNvPr id="120" name="Picture 7" descr="Lab Analysis Icons - Free SVG &amp; PNG Lab Analysis Images - Noun Project"/>
          <p:cNvPicPr/>
          <p:nvPr/>
        </p:nvPicPr>
        <p:blipFill>
          <a:blip r:embed="rId1"/>
          <a:stretch/>
        </p:blipFill>
        <p:spPr>
          <a:xfrm>
            <a:off x="6372360" y="5157720"/>
            <a:ext cx="149220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460440" y="324000"/>
            <a:ext cx="8143920" cy="4992480"/>
          </a:xfrm>
          <a:prstGeom prst="rect">
            <a:avLst/>
          </a:prstGeom>
          <a:ln w="0">
            <a:noFill/>
          </a:ln>
        </p:spPr>
      </p:pic>
      <p:pic>
        <p:nvPicPr>
          <p:cNvPr id="53" name="Picture 4" descr=""/>
          <p:cNvPicPr/>
          <p:nvPr/>
        </p:nvPicPr>
        <p:blipFill>
          <a:blip r:embed="rId2"/>
          <a:stretch/>
        </p:blipFill>
        <p:spPr>
          <a:xfrm>
            <a:off x="460440" y="5316480"/>
            <a:ext cx="5797440" cy="154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2" name=""/>
          <p:cNvSpPr txBox="1"/>
          <p:nvPr/>
        </p:nvSpPr>
        <p:spPr>
          <a:xfrm>
            <a:off x="468360" y="184428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ers of the sports medicine te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doctor (sports medicine special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rmac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otherap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ch (sports tactics and skil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tness train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hlet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joint and coordinated work of all members of the sports medicine team is necessary to achieve the best resul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75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4" name=""/>
          <p:cNvSpPr txBox="1"/>
          <p:nvPr/>
        </p:nvSpPr>
        <p:spPr>
          <a:xfrm>
            <a:off x="468360" y="1125360"/>
            <a:ext cx="8229600" cy="406584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sports doctor</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ports medicine doctor is an expert who deals with the physical, emotional and spiritual needs of athletes in the context of sports and the needs of the te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duty is to provide athletes with: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timal health care (general health status)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ion of injuries (and permanent disability)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litative and quantitative control of nutrition (together with a dietician)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atic and professional recovery</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specializations: sports medicine, orthopedic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6" name=""/>
          <p:cNvSpPr txBox="1"/>
          <p:nvPr/>
        </p:nvSpPr>
        <p:spPr>
          <a:xfrm>
            <a:off x="468360" y="1557000"/>
            <a:ext cx="8229600" cy="406548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hysiotherapist</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otherapists in sports are increasingly important, both in rehabilitation programs and in the area of injury prevention and recovery</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 of physiotherapists:        </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habilitation of sports injuries</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very after training/competition  </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ion of sports injuries</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All procedures carried out by the physiotherapist must be in accordance with the doctor's decision as well as consultation with the conditioning and head coa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8" name=""/>
          <p:cNvSpPr txBox="1"/>
          <p:nvPr/>
        </p:nvSpPr>
        <p:spPr>
          <a:xfrm>
            <a:off x="468360" y="155700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nutritionis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istered dietitians/nutritionists are also increasingly important in the functioning of the sports medicine te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etitian/nutritionist roles: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and corrects the athlete's dietary habit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dietary regimen for athletes with health disorde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desirable that dietitians are in continuous consultation with the doct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octor can also work as a dieticia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0" name=""/>
          <p:cNvSpPr txBox="1"/>
          <p:nvPr/>
        </p:nvSpPr>
        <p:spPr>
          <a:xfrm>
            <a:off x="468360" y="1557000"/>
            <a:ext cx="8229600" cy="406548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harmacist</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modern sports, in recent years, the importance of pharmacists in the sports medicine team has become more and more noticeable.</a:t>
            </a: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he pharmacist:</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ment and control of pharmacological therapy of athlet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ol and application of supplements in athlet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rmacological measures to prevent injuri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athletes from abuse of drugs and medicinal substanc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i-doping measures</a:t>
            </a:r>
            <a:r>
              <a:rPr b="0" lang="ru-RU" sz="2000" spc="-1" strike="noStrike">
                <a:solidFill>
                  <a:srgbClr val="000000"/>
                </a:solidFill>
                <a:latin typeface="Calibri"/>
              </a:rPr>
              <a:t> </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today, most of these duties are performed by a do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2" name=""/>
          <p:cNvSpPr txBox="1"/>
          <p:nvPr/>
        </p:nvSpPr>
        <p:spPr>
          <a:xfrm>
            <a:off x="468360" y="1557000"/>
            <a:ext cx="8229600" cy="5111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an authorized sports coac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ports coach teaches and works with athletes to prepare them for compet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ches are experts in the rules, strategies and techniques of the sport in which they specializ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yer selectio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ding the strategy that best suits the athlete's talent</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al preparation of the athlete for the competitio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ning the training program</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kills and qualities that a sports coach should hav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assemble a well-balanced team</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gnizing potential in athle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4"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an authorized fitness traine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tness trainer takes care of the athlete's physical fitness (functional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ol and management of the conditional/functional component of the training proces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training process (in and out of competition season)- designing the training process for the athlete's recovery</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ing the rehabilitation process (exercises) together with a physiotherap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 the procedures must be carried out by the fitness trainer in consultation with the sports trainer, doctor and physiotherapis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36"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ecessary prerequisite for the use of physical activity in the service of health is precisely the quantification and classification of both physical activity and physical abiliti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ly, in programs of physical activity for health purposes, the intensity of physical effort is individually dosed based on a previously determined level of physical ability</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hysical inactivity </a:t>
            </a:r>
            <a:r>
              <a:rPr b="0" lang="en-US" sz="2000" spc="-1" strike="noStrike">
                <a:solidFill>
                  <a:srgbClr val="000000"/>
                </a:solidFill>
                <a:latin typeface="Calibri"/>
              </a:rPr>
              <a:t>is the main risk factor for the development of </a:t>
            </a:r>
            <a:r>
              <a:rPr b="1" lang="en-US" sz="2000" spc="-1" strike="noStrike">
                <a:solidFill>
                  <a:srgbClr val="ff0000"/>
                </a:solidFill>
                <a:latin typeface="Calibri"/>
              </a:rPr>
              <a:t>coronary heart disease</a:t>
            </a:r>
            <a:r>
              <a:rPr b="0" lang="sr-RS" sz="2000" spc="-1" strike="noStrike">
                <a:solidFill>
                  <a:srgbClr val="000000"/>
                </a:solidFill>
                <a:latin typeface="Calibri"/>
              </a:rPr>
              <a:t>, </a:t>
            </a:r>
            <a:r>
              <a:rPr b="1" lang="en-US" sz="2000" spc="-1" strike="noStrike">
                <a:solidFill>
                  <a:srgbClr val="ff0000"/>
                </a:solidFill>
                <a:latin typeface="Calibri"/>
              </a:rPr>
              <a:t>stroke</a:t>
            </a:r>
            <a:r>
              <a:rPr b="0" lang="en-US" sz="2000" spc="-1" strike="noStrike">
                <a:solidFill>
                  <a:srgbClr val="000000"/>
                </a:solidFill>
                <a:latin typeface="Calibri"/>
              </a:rPr>
              <a:t> and other major cardiovascular risk factors such as </a:t>
            </a:r>
            <a:r>
              <a:rPr b="1" lang="en-US" sz="2000" spc="-1" strike="noStrike">
                <a:solidFill>
                  <a:srgbClr val="000000"/>
                </a:solidFill>
                <a:latin typeface="Calibri"/>
              </a:rPr>
              <a:t>obesity</a:t>
            </a:r>
            <a:r>
              <a:rPr b="0" lang="en-US" sz="2000" spc="-1" strike="noStrike">
                <a:solidFill>
                  <a:srgbClr val="000000"/>
                </a:solidFill>
                <a:latin typeface="Calibri"/>
              </a:rPr>
              <a:t>, </a:t>
            </a:r>
            <a:r>
              <a:rPr b="1" lang="en-US" sz="2000" spc="-1" strike="noStrike">
                <a:solidFill>
                  <a:srgbClr val="000000"/>
                </a:solidFill>
                <a:latin typeface="Calibri"/>
              </a:rPr>
              <a:t>high blood pressure</a:t>
            </a:r>
            <a:r>
              <a:rPr b="0" lang="en-US" sz="2000" spc="-1" strike="noStrike">
                <a:solidFill>
                  <a:srgbClr val="000000"/>
                </a:solidFill>
                <a:latin typeface="Calibri"/>
              </a:rPr>
              <a:t>, </a:t>
            </a:r>
            <a:r>
              <a:rPr b="1" lang="en-US" sz="2000" spc="-1" strike="noStrike">
                <a:solidFill>
                  <a:srgbClr val="000000"/>
                </a:solidFill>
                <a:latin typeface="Calibri"/>
              </a:rPr>
              <a:t>low HDL </a:t>
            </a:r>
            <a:r>
              <a:rPr b="0" lang="en-US" sz="2000" spc="-1" strike="noStrike">
                <a:solidFill>
                  <a:srgbClr val="000000"/>
                </a:solidFill>
                <a:latin typeface="Calibri"/>
              </a:rPr>
              <a:t>("good" cholesterol) and </a:t>
            </a:r>
            <a:r>
              <a:rPr b="1" lang="en-US" sz="2000" spc="-1" strike="noStrike">
                <a:solidFill>
                  <a:srgbClr val="000000"/>
                </a:solidFill>
                <a:latin typeface="Calibri"/>
              </a:rPr>
              <a:t>diabetes</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38"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even moderate, is a significant anabolic stimul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moderate physical activity stimulates the functions of the immune system</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improves the function of the heart by reducing the load, improving the contractility of the heart muscle, increasing blood volume, lowering the frequency during exercise and at rest, and increasing the stroke volume of the hea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causes the expansion of arterial flow, an increase in the number of terminal arteries and capillaries, and a decrease in the size of plaques in the arteries</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physical activity is linked to increased life expectancy and quality of life and reduced risk of cardiovascular diseas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40"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and physical exercise are terms that denote all activities that require muscle work, improving the function of blood flow and breathing, and therefore metabolis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physical activity of the appropriate type, intensity, duration and frequency is an important factor in delaying and slowing down the decline in working capacity that occurs with ag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has a positive effect not only on the physical, but also on the psychological state of the organism. It removes stress, alleviates depression, helps the nervous system to regenerate functionally</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Ivan Srejovi</a:t>
            </a:r>
            <a:r>
              <a:rPr b="1" lang="sr-Latn-RS" sz="2400" spc="-1" strike="noStrike">
                <a:solidFill>
                  <a:srgbClr val="000000"/>
                </a:solidFill>
                <a:latin typeface="Calibri"/>
              </a:rPr>
              <a:t>ć</a:t>
            </a:r>
            <a:endParaRPr b="0" lang="en-US" sz="2400" spc="-1" strike="noStrike">
              <a:solidFill>
                <a:srgbClr val="000000"/>
              </a:solidFill>
              <a:latin typeface="Calibri"/>
            </a:endParaRPr>
          </a:p>
        </p:txBody>
      </p:sp>
      <p:sp>
        <p:nvSpPr>
          <p:cNvPr id="55" name="Text Box 7"/>
          <p:cNvSpPr/>
          <p:nvPr/>
        </p:nvSpPr>
        <p:spPr>
          <a:xfrm>
            <a:off x="2409840" y="1197000"/>
            <a:ext cx="42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MEDICAL STUDIES</a:t>
            </a:r>
            <a:endParaRPr b="0" lang="en-US" sz="1800" spc="-1" strike="noStrike">
              <a:solidFill>
                <a:srgbClr val="000000"/>
              </a:solidFill>
              <a:latin typeface="Arial"/>
            </a:endParaRPr>
          </a:p>
        </p:txBody>
      </p:sp>
      <p:sp>
        <p:nvSpPr>
          <p:cNvPr id="56" name="Rectangle 9"/>
          <p:cNvSpPr/>
          <p:nvPr/>
        </p:nvSpPr>
        <p:spPr>
          <a:xfrm>
            <a:off x="250920" y="2924280"/>
            <a:ext cx="8281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cal aspects of sports medicine. Physical activity. Physical ability.</a:t>
            </a:r>
            <a:r>
              <a:rPr b="1" lang="ru-RU"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2"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in a broader sense means a set of innate</a:t>
            </a:r>
            <a:r>
              <a:rPr b="0" lang="sr-RS" sz="2000" spc="-1" strike="noStrike">
                <a:solidFill>
                  <a:srgbClr val="000000"/>
                </a:solidFill>
                <a:latin typeface="Calibri"/>
              </a:rPr>
              <a:t> </a:t>
            </a:r>
            <a:r>
              <a:rPr b="0" lang="en-US" sz="2000" spc="-1" strike="noStrike">
                <a:solidFill>
                  <a:srgbClr val="000000"/>
                </a:solidFill>
                <a:latin typeface="Calibri"/>
              </a:rPr>
              <a:t>factors and acquired conditions that enable the performance (exercise) of some activity (activ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hysical ability </a:t>
            </a:r>
            <a:r>
              <a:rPr b="0" lang="en-US" sz="2000" spc="-1" strike="noStrike">
                <a:solidFill>
                  <a:srgbClr val="000000"/>
                </a:solidFill>
                <a:latin typeface="Calibri"/>
              </a:rPr>
              <a:t>of a person is characterized by the functional integration of factors such as: morphological characteristics, muscular ability (muscular strength and muscular endurance), cardiovascular ability, respiratory ability, energy ability and work efficienc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scribing the physical ability of athletes, it is important to single out seven physical properties of a person, namely strength, speed, endurance, coordination, balance, precision and mo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4" name=""/>
          <p:cNvSpPr txBox="1"/>
          <p:nvPr/>
        </p:nvSpPr>
        <p:spPr>
          <a:xfrm>
            <a:off x="468360" y="1557360"/>
            <a:ext cx="8229600" cy="5300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ysical fitness </a:t>
            </a:r>
            <a:r>
              <a:rPr b="0" lang="en-US" sz="2000" spc="-1" strike="noStrike">
                <a:solidFill>
                  <a:srgbClr val="000000"/>
                </a:solidFill>
                <a:latin typeface="Calibri"/>
              </a:rPr>
              <a:t>means a set of all characteristics related to health status, and in some cases also to sports results or skills, and means a person's physical readiness to perform general or specific physical activities of higher intensity and larger volu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ssociated with endurance in physical activities</a:t>
            </a:r>
            <a:r>
              <a:rPr b="0" lang="sr-RS" sz="2000" spc="-1" strike="noStrike">
                <a:solidFill>
                  <a:srgbClr val="000000"/>
                </a:solidFill>
                <a:latin typeface="Calibri"/>
              </a:rPr>
              <a:t> </a:t>
            </a:r>
            <a:r>
              <a:rPr b="0" lang="en-US" sz="2000" spc="-1" strike="noStrike">
                <a:solidFill>
                  <a:srgbClr val="000000"/>
                </a:solidFill>
                <a:latin typeface="Calibri"/>
              </a:rPr>
              <a:t>of aerobic and anaerobic type and directly depends on  the functionality of the organism (cardiovascular and respiratory system, locomotor apparatus and so on), from health status, genetics, age, gender and train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rts form </a:t>
            </a:r>
            <a:r>
              <a:rPr b="0" lang="en-US" sz="2000" spc="-1" strike="noStrike">
                <a:solidFill>
                  <a:srgbClr val="000000"/>
                </a:solidFill>
                <a:latin typeface="Calibri"/>
              </a:rPr>
              <a:t>means the state of the athlete's training that enables him to achieve his current best resul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hlete can be well physically prepared, but achieving the best current result depends on many factors, such as: motivation before and during the competition, nutrition and physical activity immediately before the competition, climatic conditions in the venue of the competition and so 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6" name=""/>
          <p:cNvSpPr txBox="1"/>
          <p:nvPr/>
        </p:nvSpPr>
        <p:spPr>
          <a:xfrm>
            <a:off x="468360" y="1557360"/>
            <a:ext cx="8229600" cy="5300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assess the physical ability of an athlete, it is first of all necessary to specify the total dose or volume of physical activity performed by a person, which depends on the factors contained in the so-called </a:t>
            </a:r>
            <a:r>
              <a:rPr b="1" lang="en-US" sz="2000" spc="-1" strike="noStrike">
                <a:solidFill>
                  <a:srgbClr val="ff0000"/>
                </a:solidFill>
                <a:latin typeface="Calibri"/>
              </a:rPr>
              <a:t>FITT principle</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equency</a:t>
            </a:r>
            <a:r>
              <a:rPr b="0" lang="en-US" sz="2000" spc="-1" strike="noStrike">
                <a:solidFill>
                  <a:srgbClr val="000000"/>
                </a:solidFill>
                <a:latin typeface="Calibri"/>
              </a:rPr>
              <a:t>: how often a person is involved in physical activity (most often expressed through the number of physically active hours per we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nsity</a:t>
            </a:r>
            <a:r>
              <a:rPr b="0" lang="en-US" sz="2000" spc="-1" strike="noStrike">
                <a:solidFill>
                  <a:srgbClr val="000000"/>
                </a:solidFill>
                <a:latin typeface="Calibri"/>
              </a:rPr>
              <a:t>: what strength/intensity of physical activity is practiced (most often quantified as light, moderate and intense/vigorous physical activit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a:t>
            </a:r>
            <a:r>
              <a:rPr b="0" lang="en-US" sz="2000" spc="-1" strike="noStrike">
                <a:solidFill>
                  <a:srgbClr val="000000"/>
                </a:solidFill>
                <a:latin typeface="Calibri"/>
              </a:rPr>
              <a:t>: duration of one session of physical activit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ype</a:t>
            </a:r>
            <a:r>
              <a:rPr b="0" lang="en-US" sz="2000" spc="-1" strike="noStrike">
                <a:solidFill>
                  <a:srgbClr val="000000"/>
                </a:solidFill>
                <a:latin typeface="Calibri"/>
              </a:rPr>
              <a:t>: the specific kind/type of exercise the person is involved in (eg running, swimm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ANK YOU FOR YOUR ATTENTIO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GINNINGS AND DEVELOPMENT OF SPORTS MEDIC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EF OVERVIEW OF THE HISTORICAL ACHIEVEMENTS OF SPORTS MEDICINE</a:t>
            </a:r>
            <a:endParaRPr b="0" lang="en-US" sz="2400" spc="-1" strike="noStrike">
              <a:solidFill>
                <a:srgbClr val="000000"/>
              </a:solidFill>
              <a:latin typeface="Calibri"/>
            </a:endParaRPr>
          </a:p>
        </p:txBody>
      </p:sp>
      <p:sp>
        <p:nvSpPr>
          <p:cNvPr id="59" name=""/>
          <p:cNvSpPr txBox="1"/>
          <p:nvPr/>
        </p:nvSpPr>
        <p:spPr>
          <a:xfrm>
            <a:off x="324000" y="1484280"/>
            <a:ext cx="8229600" cy="430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ctors looked after the health of athletes at the ancient Olympic Games or gladiators in ancient Rome? (unreliable 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ginnings of modern sports medicine date back to the end of the 19th centu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anual ergometer constructed in 188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89, the first treadmill was construc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96, the first bicycle-ergometer was presented at the World Exhibition of Technical Achievements in Paris</a:t>
            </a:r>
            <a:endParaRPr b="0" lang="en-US" sz="2000" spc="-1" strike="noStrike">
              <a:solidFill>
                <a:srgbClr val="000000"/>
              </a:solidFill>
              <a:latin typeface="Calibri"/>
            </a:endParaRPr>
          </a:p>
        </p:txBody>
      </p:sp>
      <p:pic>
        <p:nvPicPr>
          <p:cNvPr id="60" name="Picture 5" descr="Ð ÐµÐ·ÑÐ»ÑÐ°Ñ ÑÐ»Ð¸ÐºÐ° Ð·Ð° Claude Gordon Douglas"/>
          <p:cNvPicPr/>
          <p:nvPr/>
        </p:nvPicPr>
        <p:blipFill>
          <a:blip r:embed="rId1"/>
          <a:stretch/>
        </p:blipFill>
        <p:spPr>
          <a:xfrm>
            <a:off x="4932360" y="4076640"/>
            <a:ext cx="1859040" cy="2521080"/>
          </a:xfrm>
          <a:prstGeom prst="rect">
            <a:avLst/>
          </a:prstGeom>
          <a:ln w="0">
            <a:noFill/>
          </a:ln>
        </p:spPr>
      </p:pic>
      <p:sp>
        <p:nvSpPr>
          <p:cNvPr id="61" name="Rectangle 4"/>
          <p:cNvSpPr/>
          <p:nvPr/>
        </p:nvSpPr>
        <p:spPr>
          <a:xfrm>
            <a:off x="324000" y="4508640"/>
            <a:ext cx="4572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11 Scotsman Claude Gordon Douglas (1882–1963) constructed a gas bag for determining physical work capacity</a:t>
            </a:r>
            <a:endParaRPr b="0" lang="en-US" sz="2000" spc="-1" strike="noStrike">
              <a:solidFill>
                <a:srgbClr val="000000"/>
              </a:solidFill>
              <a:latin typeface="Arial"/>
            </a:endParaRPr>
          </a:p>
        </p:txBody>
      </p:sp>
      <p:pic>
        <p:nvPicPr>
          <p:cNvPr id="62" name="Picture 2" descr=""/>
          <p:cNvPicPr/>
          <p:nvPr/>
        </p:nvPicPr>
        <p:blipFill>
          <a:blip r:embed="rId2"/>
          <a:srcRect l="20439" t="38450" r="59399" b="27717"/>
          <a:stretch/>
        </p:blipFill>
        <p:spPr>
          <a:xfrm>
            <a:off x="6348240" y="4005360"/>
            <a:ext cx="2795760" cy="26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SPORTS MEDICINE LABORATORIES</a:t>
            </a:r>
            <a:endParaRPr b="0" lang="en-US" sz="2400" spc="-1" strike="noStrike">
              <a:solidFill>
                <a:srgbClr val="000000"/>
              </a:solidFill>
              <a:latin typeface="Calibri"/>
            </a:endParaRPr>
          </a:p>
        </p:txBody>
      </p:sp>
      <p:sp>
        <p:nvSpPr>
          <p:cNvPr id="64" name=""/>
          <p:cNvSpPr txBox="1"/>
          <p:nvPr/>
        </p:nvSpPr>
        <p:spPr>
          <a:xfrm>
            <a:off x="324000" y="1484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11, during the First International Hygiene Exhibition in Dresden, the first sports laboratory was show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llowed for anthropometric, functional and radiological examina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laboratory was designed by Arthur Mallwitz (1880–1968), a physician and participant in the 1906 Athens Inter-Olympic Games (pentathlon) and the 1908 London Summer Olympics (high jump).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6-month period of this exhibition, trained and untrained visitors could check their physical ability based on the analysis of collected parameters before and after exercise under medical supervision.</a:t>
            </a:r>
            <a:endParaRPr b="0" lang="en-US" sz="2000" spc="-1" strike="noStrike">
              <a:solidFill>
                <a:srgbClr val="000000"/>
              </a:solidFill>
              <a:latin typeface="Calibri"/>
            </a:endParaRPr>
          </a:p>
        </p:txBody>
      </p:sp>
      <p:pic>
        <p:nvPicPr>
          <p:cNvPr id="65" name="Picture 5" descr="Ð¡ÑÐ¾Ð´Ð½Ð° ÑÐ»Ð¸ÐºÐ°"/>
          <p:cNvPicPr/>
          <p:nvPr/>
        </p:nvPicPr>
        <p:blipFill>
          <a:blip r:embed="rId1"/>
          <a:stretch/>
        </p:blipFill>
        <p:spPr>
          <a:xfrm>
            <a:off x="5435640" y="4797360"/>
            <a:ext cx="1512720" cy="18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CONGRESS OF SPORTS MEDICINE</a:t>
            </a:r>
            <a:endParaRPr b="0" lang="en-US" sz="2400" spc="-1" strike="noStrike">
              <a:solidFill>
                <a:srgbClr val="000000"/>
              </a:solidFill>
              <a:latin typeface="Calibri"/>
            </a:endParaRPr>
          </a:p>
        </p:txBody>
      </p:sp>
      <p:sp>
        <p:nvSpPr>
          <p:cNvPr id="67" name=""/>
          <p:cNvSpPr txBox="1"/>
          <p:nvPr/>
        </p:nvSpPr>
        <p:spPr>
          <a:xfrm>
            <a:off x="395280" y="169992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as held in 1912 in Oberhof, German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 participants atten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gress topics: "The importance of physical education from a hygienic point of view", "Women and physical fitness", "The influence of regular exercise on the cardiovascular syst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is congress, the first association in the field of sports medicine was founded - the German Committee for Scientific Research in Sports and Physical Exerci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13, the term sports doctor was officially used for the first time in Berlin (Artur Malwitz was declared the first holder of this tit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22, the first sports medicine magazine began to be published in Par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ociation International Medico-Sportive - AIMS</a:t>
            </a:r>
            <a:endParaRPr b="0" lang="en-US" sz="2400" spc="-1" strike="noStrike">
              <a:solidFill>
                <a:srgbClr val="000000"/>
              </a:solidFill>
              <a:latin typeface="Calibri"/>
            </a:endParaRPr>
          </a:p>
        </p:txBody>
      </p:sp>
      <p:sp>
        <p:nvSpPr>
          <p:cNvPr id="69" name=""/>
          <p:cNvSpPr txBox="1"/>
          <p:nvPr/>
        </p:nvSpPr>
        <p:spPr>
          <a:xfrm>
            <a:off x="-360" y="1628280"/>
            <a:ext cx="6659640" cy="518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2nd Winter Olympics in 1928. in St. Moritz, a meeting of 32 doctors from 11 national Olympic selections was organiz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the International Sports Medicine Association (Association International Medico-Sportive - AIMS) was form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helm Knoll (1876–1958) from Switzerland was elected as the first president, and Arthur Malwitz from Germany became the first general secret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in goals of the Association are the exchange of information and experiences related to basic research and practical aspects of sports medici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year, during the IX Summer Olympic Games in Amsterdam, the first AIMS congress was held, with the participation of 286 doctors from 30 countries.</a:t>
            </a:r>
            <a:endParaRPr b="0" lang="en-US" sz="2000" spc="-1" strike="noStrike">
              <a:solidFill>
                <a:srgbClr val="000000"/>
              </a:solidFill>
              <a:latin typeface="Calibri"/>
            </a:endParaRPr>
          </a:p>
        </p:txBody>
      </p:sp>
      <p:pic>
        <p:nvPicPr>
          <p:cNvPr id="70" name="Picture 3" descr=""/>
          <p:cNvPicPr/>
          <p:nvPr/>
        </p:nvPicPr>
        <p:blipFill>
          <a:blip r:embed="rId1"/>
          <a:srcRect l="8021" t="43922" r="75378" b="6250"/>
          <a:stretch/>
        </p:blipFill>
        <p:spPr>
          <a:xfrm>
            <a:off x="6804000" y="1989000"/>
            <a:ext cx="2160720" cy="364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2-22T09:31:19Z</dcterms:modified>
  <cp:revision>117</cp:revision>
  <dc:subject/>
  <dc:title>ФИЗИОЛОГИЈА КРВИ</dc:title>
</cp:coreProperties>
</file>